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1671-412F-4584-A52D-486CE3A08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C22A-781E-4D4C-A2B4-4C23329F8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3AF2-FD42-4D0B-93A9-8212BCFF9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01D6-B5A2-4759-A895-9A136A42F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ea typeface="B Titr"/>
              </a:rPr>
              <a:t>"چگونه موج رفتار موجی نشان می دهد"،"چگونه نویسنده های معروف خوانندگانشان را روی داستان میخکوب می کنند"،"چه مدلی چرخه اقتصادی را بهتر نشان می دهد؟"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cs typeface="B Titr"/>
              </a:rPr>
              <a:t>در محاسبات: چه خطاهایی اجتناب نا پذیراست؟-چند درصد خطا قابل قبول است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20B5-AF37-44A8-BC36-ECDEDF401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DBEE-FC55-4CA0-A237-ED4F12886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B9DD-EC14-48D7-8772-75D9B2035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حقيقي: شامل دانش و مهارت مورد نياز براي موفق شدن در خارج از مدرسه استاك هاي شناخته شده در سطح پيشرفته اي اس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از: مبتني بر استاندارد و ملاك هاي معلوم با ظرفيت هاي خاص براي دانش آموزان، معلمان و اوليا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دون جهت گيري: اجازه استفاده از فرآيندي تبعيض آميز و غير عادلانه نمي شود را نمي دهد و براي سبك هاي يادگيري و پيشينه و فرهنگ دانش آموزان احترام قائل مي شود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مستلزم استفاده از دانش توليد شده است: نياز مند آ است كه دانش آموزان دانش جديدي را توليد كنند و آن را براي حل مسئله بكار مي گير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فرآيند- شفاف كننده است: مستلزم آن است كه دانش آموزان چيزي را توليدي/ اجرايي كنند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فاف كننده دانش آموز است: دانش آموزان را درگير خود ارزشيابي و توسعه ابزار هاي سنجش مي‌كند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ي: سنجش دانش آموزان در طول زمان بسط داده مي‌شو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8E7-A614-4FD5-9773-74062975D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«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عجز جاافتاده -نهادينه شده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killed incompe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نسان هايي با اين ويژگي، به طر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گفت انگيزي در دور نگه داشتن خود از فرصت هاي يادگيري، ورزيده ا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ناتواني در يادگيري يا امتناع از يادگيري از ديرباز و براي دوره ها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اني گريبان آدمي را گرفته است و آموزش هاي رسمي نيز معمولا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ر تغيير اين وضع ناكام بوده اند. درس پژوهي تا حدود زيادي مي توا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ه مؤسسات آموزشي كمك كند تا خود را متحول سازند و ب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كارگزاران آموزشي ياري رساند تا بر احساس ناتواني سازماندهي تغيي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يا امتناع از يادگيري، ترس از دانستن و فرار از آگاهي فائق آي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5BC7-FCAC-415C-A8A6-BC0AB5694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D1D-9411-4BE1-AE79-BEAC6B03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E11-C764-4D15-849B-47C22A9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294-93F7-4BBD-8BC9-DCB50C6C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78A-1785-469D-B12A-093910D5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3DA1-CE06-4FE7-BA06-AC14F934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1C8C-49AF-4F81-90E3-5F595E91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25F6-3B76-4E1D-AEF7-94A89575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D112-3B37-4F93-B9FF-3AF694A7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A690-8D01-4110-B7C2-3A390A14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6777-B3F6-4E53-A364-1DC7A89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A9CC-D153-4A67-A59A-5A95D0A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D17-96ED-4B16-9B9E-7B9E1F53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9B6C-CD85-48E9-B478-2CD453D2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D41-ABB4-4DFC-82F5-E5EA974F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2B68-E5B6-4EA0-A45B-04D3D5FC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D647-B5B5-4B2D-B533-9509715D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14F0-32B9-4E3D-83E2-2B4E4C43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402E-D407-48E2-8C13-CB3EFEE5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73CB-FB4E-4CD9-93FA-C1AB46A5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07BB-6C01-4722-A81A-F3CC01D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8481-0626-4DCF-8D28-E7F2510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C60F-9F77-4F60-9D7C-1ABD6ADE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883-8100-45C2-9DEE-D55B6891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7446-233B-4F6C-94F3-34D24379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EBF7-08D4-4E32-9C2A-A8761785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E672-9BB2-42B4-AE28-3EFE748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748B-1130-4604-A85C-BE3D7419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A5A6-EDC3-4366-A1CE-26CE8469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372E-5302-400C-9DBB-B8E2FA96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0B7A2-66AE-4FA1-9F36-973EC754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2CB9-816B-4C3B-A182-DF948F1D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D57C-60A0-4204-9E5F-BF56EB68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9F76A-A882-4F88-B4E4-757E7E3B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EB0-2C47-498C-A8ED-86C37E6E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198A-F99B-42C6-8101-33D19ADD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B8C5-50A8-468D-B1FA-A7AB74B8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E73C-41A9-4782-B840-0CF45536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5F1D7-862F-4CBC-B4FA-0B5DF48B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DA88-A3B5-46D3-B7FA-29690911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6329-123D-417C-BFD3-6E7FA215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116B1-535E-4723-8235-D128F891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8A7B-E398-4285-A85E-6A00DCCF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788E-9997-4B8B-AE5B-9622ED97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98416-90BC-46CD-96E2-4C6E0179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8BA-F350-492E-9E6F-00AD546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8BBB-8C2C-4F6D-B40D-1EDE5151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22452-B9B1-4AE0-B99E-5F5B0195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F1275-56F3-4ACC-A60A-3B40720D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106A-A19F-445F-ADEE-722073C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32246-C30D-4005-9058-08735430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B135E-BAAD-458B-B04D-B87F5BC3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DD82-DFCC-4FF2-AADF-B1FDB79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F480-7C4B-46FA-A5C4-41A1DD1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70B01-0FBA-4F7B-8682-7691E5C3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74CB-6988-44AE-9DB8-66E9C3F6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613-61E9-4ABE-A373-CBC21A6E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3EDB4-0F30-4DB1-A876-BEB140F6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047-AB41-4212-839F-D9F5E9B5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A45-8377-4C96-8C0B-4EE70B4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46F-A971-4C32-828E-BBAE0B6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96E0-AB3C-4039-B2BA-3AB1BC5B5E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19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999B-3884-4099-AEFC-139123C26BC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D084-FA2C-4392-9CAC-6A37317A5E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F0D3-B857-41AB-9A1A-ABC22C9A222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60CE-EB08-4800-ACFE-AF41E52F24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c6a52"/>
                </a:solidFill>
                <a:latin typeface="Perpetua"/>
                <a:cs typeface="B Titr"/>
              </a:rPr>
              <a:t>با سپاس از همراهی و همدلی همه شما بزرگواران در اجرای برنامه کارورزی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38677"/>
                </a:solidFill>
                <a:latin typeface="Perpetua"/>
                <a:cs typeface="B Titr"/>
              </a:rPr>
              <a:t>کارگاه آموزشی مدرسان کارورزی(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4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38677"/>
                </a:solidFill>
                <a:latin typeface="Perpetua"/>
                <a:cs typeface="B Titr"/>
              </a:rPr>
              <a:t>دی ماه 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139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بسم الله الرحمن الرحیم</a:t>
            </a:r>
            <a:endParaRPr b="0" lang="en-US" sz="54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نقشه های ذه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62" name="Subtitle 2"/>
          <p:cNvGrpSpPr/>
          <p:nvPr/>
        </p:nvGrpSpPr>
        <p:grpSpPr>
          <a:xfrm>
            <a:off x="1133640" y="3114720"/>
            <a:ext cx="6651360" cy="3371760"/>
            <a:chOff x="1133640" y="3114720"/>
            <a:chExt cx="6651360" cy="3371760"/>
          </a:xfrm>
        </p:grpSpPr>
        <p:pic>
          <p:nvPicPr>
            <p:cNvPr id="263" name="Subtitle 2" descr=""/>
            <p:cNvPicPr/>
            <p:nvPr/>
          </p:nvPicPr>
          <p:blipFill>
            <a:blip r:embed="rId1"/>
            <a:stretch/>
          </p:blipFill>
          <p:spPr>
            <a:xfrm>
              <a:off x="1133640" y="3114720"/>
              <a:ext cx="665136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95280" y="3200400"/>
              <a:ext cx="64008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نقشه هاي ذهنی روشي براي بازنمايي بصري اطلاعات هستند.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تهیه نقشه ي ذهنی به ما كمك مي كند تا اطلاعاتي را كه از قبل درباره ي يك موضوع مي دانيم روي هم بگذاريم و مطلب جديد را، همچنان كه آن را ياد مي گيريم، درک کنیم. 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10"/>
          <p:cNvSpPr/>
          <p:nvPr/>
        </p:nvSpPr>
        <p:spPr>
          <a:xfrm>
            <a:off x="1981080" y="1219320"/>
            <a:ext cx="1981440" cy="160020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236232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موجود زند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4876920" y="2666880"/>
            <a:ext cx="838080" cy="83844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4952880" y="2895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گیا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69" name="Straight Arrow Connector 15"/>
          <p:cNvCxnSpPr>
            <a:stCxn id="265" idx="5"/>
          </p:cNvCxnSpPr>
          <p:nvPr/>
        </p:nvCxnSpPr>
        <p:spPr>
          <a:xfrm>
            <a:off x="3671640" y="2584440"/>
            <a:ext cx="1129320" cy="3880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  <p:sp>
        <p:nvSpPr>
          <p:cNvPr id="270" name="Oval 16"/>
          <p:cNvSpPr/>
          <p:nvPr/>
        </p:nvSpPr>
        <p:spPr>
          <a:xfrm>
            <a:off x="2514600" y="3429000"/>
            <a:ext cx="838080" cy="83808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71" name="Straight Arrow Connector 17"/>
          <p:cNvCxnSpPr>
            <a:stCxn id="265" idx="3"/>
            <a:endCxn id="270" idx="0"/>
          </p:cNvCxnSpPr>
          <p:nvPr/>
        </p:nvCxnSpPr>
        <p:spPr>
          <a:xfrm>
            <a:off x="2271240" y="2584440"/>
            <a:ext cx="662760" cy="8452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Marziyeh\Desktop\mm_health.jpg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واحد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3200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یک واحد یادگیری عبارت است از چند رویداد یادگیری به هم مرتبط و معنادار که با ارائه‌ی آن دانش آموز می‌تواند به شایستگی مهمی دست یابد</a:t>
            </a:r>
            <a:r>
              <a:rPr b="0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هدف از طراحی یک واحد یادگیری آن است که یادگیرنده بتواند از آنچه یاد می‌گیرد معنای تازه‏ای بسازد و آنچه آموخته است را با استقلال و اثربخشی روز افزون در موقعیت های پیچیده ی جهان واقعی به کار ببرد</a:t>
            </a:r>
            <a:r>
              <a:rPr b="0" lang="fa-IR" sz="2800" spc="-1" strike="noStrike">
                <a:solidFill>
                  <a:srgbClr val="ff3399"/>
                </a:solidFill>
                <a:latin typeface="Perpetua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Subtitle 4" descr=""/>
          <p:cNvPicPr/>
          <p:nvPr/>
        </p:nvPicPr>
        <p:blipFill>
          <a:blip r:embed="rId1"/>
          <a:stretch/>
        </p:blipFill>
        <p:spPr>
          <a:xfrm>
            <a:off x="1279440" y="3097080"/>
            <a:ext cx="6426360" cy="33163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آشنایی با اصطلاحات در طراحی واحد یادگیری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ntent Placeholder 2" descr=""/>
          <p:cNvPicPr/>
          <p:nvPr/>
        </p:nvPicPr>
        <p:blipFill>
          <a:blip r:embed="rId1"/>
          <a:stretch/>
        </p:blipFill>
        <p:spPr>
          <a:xfrm>
            <a:off x="1279440" y="3157560"/>
            <a:ext cx="6529320" cy="29512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تحلیل متن آموزش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80520" y="3200040"/>
            <a:ext cx="8077320" cy="2438280"/>
          </a:xfrm>
          <a:prstGeom prst="rect">
            <a:avLst/>
          </a:prstGeom>
          <a:solidFill>
            <a:srgbClr val="0082a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ایده های کلیدی/ مفاهیم و مهارت های اساسی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قوانین/ قواعد/ اصول/ تعمیم ها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حقایق و اطلاعات جزئی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حتوا در برنامه درسی(کتاب درسی)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شایستگی ها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82" name="Content Placeholder 2"/>
          <p:cNvGrpSpPr/>
          <p:nvPr/>
        </p:nvGrpSpPr>
        <p:grpSpPr>
          <a:xfrm>
            <a:off x="-353880" y="1554120"/>
            <a:ext cx="9248760" cy="5505480"/>
            <a:chOff x="-353880" y="1554120"/>
            <a:chExt cx="9248760" cy="5505480"/>
          </a:xfrm>
        </p:grpSpPr>
        <p:pic>
          <p:nvPicPr>
            <p:cNvPr id="2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353880" y="1554120"/>
              <a:ext cx="9248760" cy="55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28600" y="1600200"/>
              <a:ext cx="861048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تلفیق پذیر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یک شایستگی تلفیق منسجمی از عناصر مورد نیاز برای حل مساله های تربیتی است. 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پایدار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یک ویژگی شایستگی تداوم، پایداری و قابلیت توسعه آن در گذر زمان است. اهداف متکی بر محتوا (برای مثال دانش و مهارت ) با گذشت زمان تغییر می کند</a:t>
              </a:r>
              <a:r>
                <a:rPr b="1" lang="en-US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.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خاص بودن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شایستگی ها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ترکیبی از مهارت های شناختی و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فراشناختی،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مهارت ها، دانش (دانش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آشکار و دانش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ضمنی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)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نگیزش، ارزش ها، نگرش ها، هیجا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ن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ت و رفتار های اجتماعی که برای انجام یک عمل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حرفه‏ای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در زمینه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‏ای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 خاصی بسیج می شوند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669960" y="255600"/>
            <a:ext cx="780408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86" name="Content Placeholder 2"/>
          <p:cNvGrpSpPr/>
          <p:nvPr/>
        </p:nvGrpSpPr>
        <p:grpSpPr>
          <a:xfrm>
            <a:off x="554040" y="1536840"/>
            <a:ext cx="8126280" cy="5735520"/>
            <a:chOff x="554040" y="1536840"/>
            <a:chExt cx="8126280" cy="5735520"/>
          </a:xfrm>
        </p:grpSpPr>
        <p:pic>
          <p:nvPicPr>
            <p:cNvPr id="28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54040" y="1536840"/>
              <a:ext cx="8126280" cy="57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85800" y="1752480"/>
              <a:ext cx="77724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شایستگی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یادگیری باید شامل: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وقعیت/ مسئله‏ای که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منجر به ساخت معنی 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از سوی 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دانش آموز می شود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و می تواند یادگیری رابه موقعیت جدید انتقال دهد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توانایی ها/ قابلیت های یادگیرنده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،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لاک های ارزیابی عملکرد (شواهد)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سطح عملکرد (کیفت/ کمیت)/ تولید مورد انتظار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(آنچه پیش بینی شده و آن برآمده از موقعیت است)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>
                <a:lnSpc>
                  <a:spcPct val="90000"/>
                </a:lnSpc>
                <a:spcBef>
                  <a:spcPts val="575"/>
                </a:spcBef>
                <a:buClr>
                  <a:srgbClr val="7fd13b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با درک مسئولیت ها در قبال سلامت و بهداشت جامعه، در برنامه های ارتقای سلامت/ تفریحات سالم/ سالم سازی محیط زیست مشارکت ‏کند و بر اساس نتایج آن برای حفظ/ارتقاء سلامت در زندگی خود تصمیم گیری نماید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38" name="Subtitle 4"/>
          <p:cNvGrpSpPr/>
          <p:nvPr/>
        </p:nvGrpSpPr>
        <p:grpSpPr>
          <a:xfrm>
            <a:off x="347760" y="1219320"/>
            <a:ext cx="8454960" cy="5010120"/>
            <a:chOff x="347760" y="1219320"/>
            <a:chExt cx="8454960" cy="5010120"/>
          </a:xfrm>
        </p:grpSpPr>
        <p:pic>
          <p:nvPicPr>
            <p:cNvPr id="239" name="Subtitle 4" descr=""/>
            <p:cNvPicPr/>
            <p:nvPr/>
          </p:nvPicPr>
          <p:blipFill>
            <a:blip r:embed="rId1"/>
            <a:stretch/>
          </p:blipFill>
          <p:spPr>
            <a:xfrm>
              <a:off x="347760" y="1219320"/>
              <a:ext cx="845496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09480" y="1523880"/>
              <a:ext cx="8001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cs typeface="B Titr"/>
                </a:rPr>
                <a:t>هدف عملیاتی </a:t>
              </a: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11</a:t>
              </a: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 سند تحول</a:t>
              </a:r>
              <a:endParaRPr b="0" lang="en-US" sz="3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«بازمهندسی سیاست‌ها و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بازتنظیم اصول حاکم بر برنامه‌ درسی تربیت معلم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با تأکید بر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کارورزی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و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انطباق </a:t>
              </a:r>
              <a:r>
                <a:rPr b="1" lang="ar-SA" sz="2600" spc="-1" strike="noStrike" u="sng">
                  <a:solidFill>
                    <a:srgbClr val="fff1ce"/>
                  </a:solidFill>
                  <a:uFillTx/>
                  <a:latin typeface="Perpetua"/>
                  <a:cs typeface="B Titr"/>
                </a:rPr>
                <a:t>سطح شایستگی‌های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حرفه‌ای معلمان در سطح ملی و جهانی با مقتضیات الگوی برنامه درسی در نظام تعلیم و تربیت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و طراحی سیاست‌های مناسب برای ارتقای شیوه‌های جذب، تربیت و نگهداشت معلمان در آموزش و پرورش». 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785880" y="158760"/>
            <a:ext cx="8023320" cy="1395360"/>
          </a:xfrm>
          <a:prstGeom prst="rect">
            <a:avLst/>
          </a:prstGeom>
          <a:ln w="0">
            <a:noFill/>
          </a:ln>
        </p:spPr>
      </p:pic>
      <p:pic>
        <p:nvPicPr>
          <p:cNvPr id="292" name="TextBox 3" descr=""/>
          <p:cNvPicPr/>
          <p:nvPr/>
        </p:nvPicPr>
        <p:blipFill>
          <a:blip r:embed="rId2"/>
          <a:stretch/>
        </p:blipFill>
        <p:spPr>
          <a:xfrm>
            <a:off x="225360" y="1427040"/>
            <a:ext cx="88520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785880" y="158760"/>
            <a:ext cx="8023320" cy="139536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3" descr=""/>
          <p:cNvPicPr/>
          <p:nvPr/>
        </p:nvPicPr>
        <p:blipFill>
          <a:blip r:embed="rId2"/>
          <a:stretch/>
        </p:blipFill>
        <p:spPr>
          <a:xfrm>
            <a:off x="-6480" y="1859040"/>
            <a:ext cx="9083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785880" y="64620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«چگونه موج رفتار موجی نشان می دهد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ea typeface="B Titr"/>
              </a:rPr>
              <a:t>«چگونه نویسنده های معروف خوانندگانشان را روی داستان میخکوب می کنن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ea typeface="B Titr"/>
              </a:rPr>
              <a:t>«چه مدلی چرخه اقتصادی را بهتر نشان می ده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2" descr=""/>
          <p:cNvPicPr/>
          <p:nvPr/>
        </p:nvPicPr>
        <p:blipFill>
          <a:blip r:embed="rId1"/>
          <a:stretch/>
        </p:blipFill>
        <p:spPr>
          <a:xfrm>
            <a:off x="658800" y="3041640"/>
            <a:ext cx="7656480" cy="35971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یده کلی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ساختار و عملکر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سیستم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لگو ها و روابط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سلام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ontent Placeholder 2" descr=""/>
          <p:cNvPicPr/>
          <p:nvPr/>
        </p:nvPicPr>
        <p:blipFill>
          <a:blip r:embed="rId1"/>
          <a:stretch/>
        </p:blipFill>
        <p:spPr>
          <a:xfrm>
            <a:off x="1054080" y="3486240"/>
            <a:ext cx="6632640" cy="29271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فاهیم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و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cce0c"/>
                </a:solidFill>
                <a:latin typeface="Perpetua"/>
                <a:cs typeface="B Titr"/>
              </a:rPr>
              <a:t>ناحی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عد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تورّ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1daff"/>
                </a:solidFill>
                <a:latin typeface="Perpetua"/>
                <a:cs typeface="B Titr"/>
              </a:rPr>
              <a:t>اکوسیست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ae2c83"/>
                </a:solidFill>
                <a:latin typeface="Perpetua"/>
                <a:cs typeface="B Titr"/>
              </a:rPr>
              <a:t>جنبش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Content Placeholder 2" descr=""/>
          <p:cNvPicPr/>
          <p:nvPr/>
        </p:nvPicPr>
        <p:blipFill>
          <a:blip r:embed="rId1"/>
          <a:stretch/>
        </p:blipFill>
        <p:spPr>
          <a:xfrm>
            <a:off x="1017720" y="3181320"/>
            <a:ext cx="6840360" cy="2774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هارت های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حاسب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رسیم نقش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تصمیم گیر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گوش دادن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اصل: انبساط و انقباض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عمیم: فلزات در اثر حرات منبسط می شون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طلاعات جزئی: فاصله زمین تا خورشید 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یک واحد نجومی اس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قاعده: ساخت فعل مضارع از بن فعل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772400" cy="4572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-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cs typeface="B Titr"/>
              </a:rPr>
              <a:t>هدف عملیاتی </a:t>
            </a: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11</a:t>
            </a: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 سند تحول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cs typeface="B Titr"/>
              </a:rPr>
              <a:t>استقرار سازوکارهای</a:t>
            </a:r>
            <a:r>
              <a:rPr b="0" lang="fa-IR" sz="4600" spc="-1" strike="noStrike">
                <a:solidFill>
                  <a:srgbClr val="fff1ce"/>
                </a:solidFill>
                <a:latin typeface="Perpetua"/>
                <a:ea typeface="B Titr"/>
              </a:rPr>
              <a:t> ارتقای توانمندی های معلمان برای مشارکت مؤثر آنان در برنامه‏ریزی درسی در سطح مدرسه، به ویژه سازوکار هایی که به تقویت هویت حرقه‏ای آنان می‏انجامد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. (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6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-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11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)</a:t>
            </a:r>
            <a:r>
              <a:rPr b="0" lang="fa-IR" sz="4600" spc="-1" strike="noStrike">
                <a:solidFill>
                  <a:srgbClr val="fff1ce"/>
                </a:solidFill>
                <a:latin typeface="Perpetua"/>
                <a:ea typeface="B Titr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cs typeface="B Titr"/>
              </a:rPr>
              <a:t>شواهد یادگیری مطلوب کدامند؟</a:t>
            </a:r>
            <a:br>
              <a:rPr sz="3600"/>
            </a:b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ea typeface="B Titr"/>
              </a:rPr>
              <a:t> 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به طور خاص چه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شواهد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ی حاکی از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درک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عمیق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است؟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80520" y="30477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b050"/>
                </a:solidFill>
                <a:latin typeface="Perpetua"/>
                <a:cs typeface="B Titr"/>
              </a:rPr>
              <a:t>چگونه می توان فهمید که دانش آموز به نتایج مطلوب و استانداردها در برنامه درسی دست یافته اند؟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4e5b6f"/>
                </a:solidFill>
                <a:latin typeface="Perpetua"/>
                <a:ea typeface="B Titr"/>
              </a:rPr>
              <a:t> </a:t>
            </a:r>
            <a:r>
              <a:rPr b="0" lang="fa-IR" sz="3500" spc="-1" strike="noStrike">
                <a:solidFill>
                  <a:srgbClr val="ff0000"/>
                </a:solidFill>
                <a:latin typeface="Perpetua"/>
                <a:cs typeface="B Titr"/>
              </a:rPr>
              <a:t>چگونه می توان دریافت که دانش آموز "ایده کلید" را به درستی درک کرده ا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70c0"/>
                </a:solidFill>
                <a:latin typeface="Perpetua"/>
                <a:cs typeface="B Titr"/>
              </a:rPr>
              <a:t>چه شواهدی دست یابی دانش آموز به تمام شایستگی ها را تایید می ک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320" y="1371240"/>
            <a:ext cx="8991360" cy="1600200"/>
          </a:xfrm>
          <a:prstGeom prst="rect">
            <a:avLst/>
          </a:prstGeom>
          <a:solidFill>
            <a:srgbClr val="caf7f1"/>
          </a:solidFill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435faa"/>
                </a:solidFill>
                <a:latin typeface="Franklin Gothic Book"/>
                <a:cs typeface="B Titr"/>
              </a:rPr>
              <a:t>ويژگي هاي تکالیف عملكر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14" name="Diagram 4" descr=""/>
          <p:cNvPicPr/>
          <p:nvPr/>
        </p:nvPicPr>
        <p:blipFill>
          <a:blip r:embed="rId1"/>
          <a:stretch/>
        </p:blipFill>
        <p:spPr>
          <a:xfrm>
            <a:off x="596880" y="2932200"/>
            <a:ext cx="79138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Title 3"/>
          <p:cNvGrpSpPr/>
          <p:nvPr/>
        </p:nvGrpSpPr>
        <p:grpSpPr>
          <a:xfrm>
            <a:off x="-55440" y="195120"/>
            <a:ext cx="9235800" cy="2865600"/>
            <a:chOff x="-55440" y="195120"/>
            <a:chExt cx="9235800" cy="2865600"/>
          </a:xfrm>
        </p:grpSpPr>
        <p:pic>
          <p:nvPicPr>
            <p:cNvPr id="316" name="Title 3" descr=""/>
            <p:cNvPicPr/>
            <p:nvPr/>
          </p:nvPicPr>
          <p:blipFill>
            <a:blip r:embed="rId1"/>
            <a:stretch/>
          </p:blipFill>
          <p:spPr>
            <a:xfrm>
              <a:off x="-55440" y="195120"/>
              <a:ext cx="923580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6320" y="228600"/>
              <a:ext cx="8991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چه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آ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موزش و فعالیت های یادگیری شایستگی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های او 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را رشد می دهد؟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318" name="Subtitle 4" descr=""/>
          <p:cNvPicPr/>
          <p:nvPr/>
        </p:nvPicPr>
        <p:blipFill>
          <a:blip r:embed="rId2"/>
          <a:stretch/>
        </p:blipFill>
        <p:spPr>
          <a:xfrm>
            <a:off x="822240" y="3333600"/>
            <a:ext cx="68835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4ddd4"/>
                </a:solidFill>
                <a:latin typeface="Franklin Gothic Book"/>
                <a:cs typeface="B Titr"/>
              </a:rPr>
              <a:t>انواع فعالیت های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20" name="Subtitle 4" descr=""/>
          <p:cNvPicPr/>
          <p:nvPr/>
        </p:nvPicPr>
        <p:blipFill>
          <a:blip r:embed="rId1"/>
          <a:stretch/>
        </p:blipFill>
        <p:spPr>
          <a:xfrm>
            <a:off x="1279440" y="3181320"/>
            <a:ext cx="642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رقراری ارتباط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تجربه کرد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کاربستن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ه اشتراک گذاشت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انتقال به موقعیت جدید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راحل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6294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سنج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3352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آموز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2362320" y="1295280"/>
            <a:ext cx="4495680" cy="4114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dae6"/>
              </a:gs>
              <a:gs pos="100000">
                <a:srgbClr val="06acb0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581280" y="914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برنامه درس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3278160" y="3954240"/>
            <a:ext cx="2665440" cy="649800"/>
          </a:xfrm>
          <a:prstGeom prst="ellipse">
            <a:avLst/>
          </a:prstGeom>
          <a:solidFill>
            <a:srgbClr val="d4e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شایستگ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Line 8"/>
          <p:cNvSpPr/>
          <p:nvPr/>
        </p:nvSpPr>
        <p:spPr>
          <a:xfrm flipH="1">
            <a:off x="2057040" y="1447920"/>
            <a:ext cx="213372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286000" y="5638680"/>
            <a:ext cx="46483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Line 10"/>
          <p:cNvSpPr/>
          <p:nvPr/>
        </p:nvSpPr>
        <p:spPr>
          <a:xfrm flipH="1" flipV="1">
            <a:off x="5028840" y="1447920"/>
            <a:ext cx="205740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457200" y="1828800"/>
            <a:ext cx="8153280" cy="2322360"/>
            <a:chOff x="457200" y="1828800"/>
            <a:chExt cx="8153280" cy="2322360"/>
          </a:xfrm>
        </p:grpSpPr>
        <p:sp>
          <p:nvSpPr>
            <p:cNvPr id="332" name="Text Box 3"/>
            <p:cNvSpPr/>
            <p:nvPr/>
          </p:nvSpPr>
          <p:spPr>
            <a:xfrm>
              <a:off x="6310080" y="1833480"/>
              <a:ext cx="1555200" cy="803880"/>
            </a:xfrm>
            <a:prstGeom prst="rect">
              <a:avLst/>
            </a:prstGeom>
            <a:solidFill>
              <a:srgbClr val="b2e3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کنش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3" name="Text Box 4"/>
            <p:cNvSpPr/>
            <p:nvPr/>
          </p:nvSpPr>
          <p:spPr>
            <a:xfrm>
              <a:off x="4365720" y="1828800"/>
              <a:ext cx="1555200" cy="803520"/>
            </a:xfrm>
            <a:prstGeom prst="rect">
              <a:avLst/>
            </a:prstGeom>
            <a:solidFill>
              <a:srgbClr val="f273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تأمل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4" name="Text Box 5"/>
            <p:cNvSpPr/>
            <p:nvPr/>
          </p:nvSpPr>
          <p:spPr>
            <a:xfrm>
              <a:off x="2299680" y="1869840"/>
              <a:ext cx="1715040" cy="80388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چالش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>
              <a:off x="457200" y="1840680"/>
              <a:ext cx="1555200" cy="803520"/>
            </a:xfrm>
            <a:prstGeom prst="rect">
              <a:avLst/>
            </a:prstGeom>
            <a:solidFill>
              <a:srgbClr val="5fe8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احساس امنیت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6" name="Line 7"/>
            <p:cNvSpPr/>
            <p:nvPr/>
          </p:nvSpPr>
          <p:spPr>
            <a:xfrm>
              <a:off x="2040840" y="225900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7" name="Line 8"/>
            <p:cNvSpPr/>
            <p:nvPr/>
          </p:nvSpPr>
          <p:spPr>
            <a:xfrm>
              <a:off x="4075920" y="2259000"/>
              <a:ext cx="2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5977440" y="221220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>
              <a:off x="5153040" y="2259000"/>
              <a:ext cx="3191040" cy="1166760"/>
            </a:xfrm>
            <a:custGeom>
              <a:avLst/>
              <a:gdLst>
                <a:gd name="textAreaLeft" fmla="*/ 0 w 3191040"/>
                <a:gd name="textAreaRight" fmla="*/ 3191400 w 3191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5958" h="1838">
                  <a:moveTo>
                    <a:pt x="5189" y="0"/>
                  </a:moveTo>
                  <a:lnTo>
                    <a:pt x="5958" y="0"/>
                  </a:lnTo>
                  <a:lnTo>
                    <a:pt x="5958" y="1838"/>
                  </a:lnTo>
                  <a:lnTo>
                    <a:pt x="0" y="1838"/>
                  </a:lnTo>
                  <a:lnTo>
                    <a:pt x="0" y="8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0" name="Freeform 11"/>
            <p:cNvSpPr/>
            <p:nvPr/>
          </p:nvSpPr>
          <p:spPr>
            <a:xfrm>
              <a:off x="3065040" y="2149200"/>
              <a:ext cx="5425200" cy="1512720"/>
            </a:xfrm>
            <a:custGeom>
              <a:avLst/>
              <a:gdLst>
                <a:gd name="textAreaLeft" fmla="*/ 0 w 5425200"/>
                <a:gd name="textAreaRight" fmla="*/ 5425560 w 5425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0129" h="2383">
                  <a:moveTo>
                    <a:pt x="9087" y="0"/>
                  </a:moveTo>
                  <a:lnTo>
                    <a:pt x="10129" y="0"/>
                  </a:lnTo>
                  <a:lnTo>
                    <a:pt x="10129" y="2383"/>
                  </a:lnTo>
                  <a:lnTo>
                    <a:pt x="0" y="2383"/>
                  </a:lnTo>
                  <a:lnTo>
                    <a:pt x="0" y="11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1" name="Freeform 12"/>
            <p:cNvSpPr/>
            <p:nvPr/>
          </p:nvSpPr>
          <p:spPr>
            <a:xfrm>
              <a:off x="1070280" y="2022840"/>
              <a:ext cx="7540200" cy="2128320"/>
            </a:xfrm>
            <a:custGeom>
              <a:avLst/>
              <a:gdLst>
                <a:gd name="textAreaLeft" fmla="*/ 0 w 7540200"/>
                <a:gd name="textAreaRight" fmla="*/ 7540560 w 7540200"/>
                <a:gd name="textAreaTop" fmla="*/ 0 h 2128320"/>
                <a:gd name="textAreaBottom" fmla="*/ 2128680 h 2128320"/>
              </a:gdLst>
              <a:ahLst/>
              <a:rect l="textAreaLeft" t="textAreaTop" r="textAreaRight" b="textAreaBottom"/>
              <a:pathLst>
                <a:path w="14077" h="3352">
                  <a:moveTo>
                    <a:pt x="12811" y="0"/>
                  </a:moveTo>
                  <a:lnTo>
                    <a:pt x="14077" y="0"/>
                  </a:lnTo>
                  <a:lnTo>
                    <a:pt x="14077" y="3352"/>
                  </a:lnTo>
                  <a:lnTo>
                    <a:pt x="0" y="3352"/>
                  </a:lnTo>
                  <a:lnTo>
                    <a:pt x="0" y="1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به پایان آمد این دفتر حکایت همچنان باقی است</a:t>
            </a: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.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0000"/>
                </a:solidFill>
                <a:latin typeface="Perpetua"/>
                <a:cs typeface="B Titr"/>
              </a:rPr>
              <a:t>با سپاس از همراهی شما بزرگواران در طول این سفر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9900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44" name="Subtitle 4"/>
          <p:cNvGrpSpPr/>
          <p:nvPr/>
        </p:nvGrpSpPr>
        <p:grpSpPr>
          <a:xfrm>
            <a:off x="285840" y="1285920"/>
            <a:ext cx="8308800" cy="5280120"/>
            <a:chOff x="285840" y="1285920"/>
            <a:chExt cx="8308800" cy="5280120"/>
          </a:xfrm>
        </p:grpSpPr>
        <p:pic>
          <p:nvPicPr>
            <p:cNvPr id="245" name="Subtitle 4" descr=""/>
            <p:cNvPicPr/>
            <p:nvPr/>
          </p:nvPicPr>
          <p:blipFill>
            <a:blip r:embed="rId1"/>
            <a:stretch/>
          </p:blipFill>
          <p:spPr>
            <a:xfrm>
              <a:off x="285840" y="1285920"/>
              <a:ext cx="8308800" cy="52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09480" y="1523880"/>
              <a:ext cx="777240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cs typeface="B Titr"/>
                </a:rPr>
                <a:t>نقش معلم در برنامه درسی ملی 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( صفحه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12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)</a:t>
              </a:r>
              <a:endParaRPr b="0" lang="en-US" sz="12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« برای خلق فرصت های تربیتی و آموزش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]</a:t>
              </a: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cs typeface="B Titr"/>
                </a:rPr>
                <a:t>معلم 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[</a:t>
              </a: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مسئولیت تطبیق، تدوین، اجرا و ارزشیابی برنامه های درسی و تربیتی در سطح کلاس درس را بر عهده دارد»).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009900"/>
                  </a:solidFill>
                  <a:latin typeface="Perpetua"/>
                  <a:ea typeface="B Titr"/>
                </a:rPr>
                <a:t>« با شناخت و بسط ظرفیت های وجودی دانش آموزان و خلق فرصت های تربیتی و آموزشی زمینه درک و انگیزه اصلاح مداوم موقعیت آنان را  فراهم سازد»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Title 6"/>
          <p:cNvGrpSpPr/>
          <p:nvPr/>
        </p:nvGrpSpPr>
        <p:grpSpPr>
          <a:xfrm>
            <a:off x="853920" y="622440"/>
            <a:ext cx="7888320" cy="2511360"/>
            <a:chOff x="853920" y="622440"/>
            <a:chExt cx="7888320" cy="2511360"/>
          </a:xfrm>
        </p:grpSpPr>
        <p:pic>
          <p:nvPicPr>
            <p:cNvPr id="248" name="Title 6" descr=""/>
            <p:cNvPicPr/>
            <p:nvPr/>
          </p:nvPicPr>
          <p:blipFill>
            <a:blip r:embed="rId1"/>
            <a:stretch/>
          </p:blipFill>
          <p:spPr>
            <a:xfrm>
              <a:off x="853920" y="622440"/>
              <a:ext cx="7888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14400" y="655560"/>
              <a:ext cx="7772400" cy="23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4000" spc="-1" strike="noStrike">
                  <a:solidFill>
                    <a:srgbClr val="f2f2f2"/>
                  </a:solidFill>
                  <a:latin typeface="Franklin Gothic Book"/>
                  <a:cs typeface="B Titr"/>
                </a:rPr>
                <a:t>نقش معلم به عنوان آموزش دهنده موضوعات</a:t>
              </a:r>
              <a:r>
                <a:rPr b="1" lang="fa-IR" sz="4000" spc="-1" strike="noStrike">
                  <a:solidFill>
                    <a:srgbClr val="f2f2f2"/>
                  </a:solidFill>
                  <a:latin typeface="Franklin Gothic Book"/>
                  <a:ea typeface="B Titr"/>
                </a:rPr>
                <a:t> 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0" name="Title 6"/>
          <p:cNvGrpSpPr/>
          <p:nvPr/>
        </p:nvGrpSpPr>
        <p:grpSpPr>
          <a:xfrm>
            <a:off x="785880" y="3693960"/>
            <a:ext cx="8023320" cy="2230560"/>
            <a:chOff x="785880" y="3693960"/>
            <a:chExt cx="8023320" cy="2230560"/>
          </a:xfrm>
        </p:grpSpPr>
        <p:pic>
          <p:nvPicPr>
            <p:cNvPr id="251" name="Title 6" descr=""/>
            <p:cNvPicPr/>
            <p:nvPr/>
          </p:nvPicPr>
          <p:blipFill>
            <a:blip r:embed="rId2"/>
            <a:stretch/>
          </p:blipFill>
          <p:spPr>
            <a:xfrm>
              <a:off x="785880" y="3693960"/>
              <a:ext cx="802332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914400" y="3809880"/>
              <a:ext cx="777240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0" lang="fa-IR" sz="4000" spc="-1" strike="noStrike">
                  <a:solidFill>
                    <a:srgbClr val="e5f6d8"/>
                  </a:solidFill>
                  <a:latin typeface="Franklin Gothic Book"/>
                  <a:cs typeface="B Titr"/>
                </a:rPr>
                <a:t>نقش معلم به عنوان کارگزار  فکور 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138677"/>
                </a:solidFill>
                <a:latin typeface="Franklin Gothic Book"/>
                <a:cs typeface="B Titr"/>
              </a:rPr>
              <a:t>اهداف کارگاه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54" name="Content Placeholder 2" descr=""/>
          <p:cNvPicPr/>
          <p:nvPr/>
        </p:nvPicPr>
        <p:blipFill>
          <a:blip r:embed="rId1"/>
          <a:stretch/>
        </p:blipFill>
        <p:spPr>
          <a:xfrm>
            <a:off x="895320" y="1427040"/>
            <a:ext cx="78645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itle 1"/>
          <p:cNvGrpSpPr/>
          <p:nvPr/>
        </p:nvGrpSpPr>
        <p:grpSpPr>
          <a:xfrm>
            <a:off x="785880" y="158760"/>
            <a:ext cx="8023320" cy="1395360"/>
            <a:chOff x="785880" y="158760"/>
            <a:chExt cx="8023320" cy="1395360"/>
          </a:xfrm>
        </p:grpSpPr>
        <p:pic>
          <p:nvPicPr>
            <p:cNvPr id="256" name="Title 1" descr=""/>
            <p:cNvPicPr/>
            <p:nvPr/>
          </p:nvPicPr>
          <p:blipFill>
            <a:blip r:embed="rId1"/>
            <a:stretch/>
          </p:blipFill>
          <p:spPr>
            <a:xfrm>
              <a:off x="785880" y="158760"/>
              <a:ext cx="8023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914400" y="2746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138677"/>
                  </a:solidFill>
                  <a:latin typeface="Franklin Gothic Book"/>
                  <a:ea typeface="B Titr"/>
                </a:rPr>
                <a:t> </a:t>
              </a:r>
              <a:r>
                <a:rPr b="0" lang="fa-IR" sz="4000" spc="-1" strike="noStrike">
                  <a:solidFill>
                    <a:srgbClr val="138677"/>
                  </a:solidFill>
                  <a:latin typeface="Franklin Gothic Book"/>
                  <a:cs typeface="B Titr"/>
                </a:rPr>
                <a:t>پرسش ها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58" name="Content Placeholder 2" descr=""/>
          <p:cNvPicPr/>
          <p:nvPr/>
        </p:nvPicPr>
        <p:blipFill>
          <a:blip r:embed="rId2"/>
          <a:stretch/>
        </p:blipFill>
        <p:spPr>
          <a:xfrm>
            <a:off x="822240" y="1427040"/>
            <a:ext cx="79376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Diagram 3" descr=""/>
          <p:cNvPicPr/>
          <p:nvPr/>
        </p:nvPicPr>
        <p:blipFill>
          <a:blip r:embed="rId1"/>
          <a:stretch/>
        </p:blipFill>
        <p:spPr>
          <a:xfrm>
            <a:off x="-60480" y="298440"/>
            <a:ext cx="868680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Diagram 1" descr=""/>
          <p:cNvPicPr/>
          <p:nvPr/>
        </p:nvPicPr>
        <p:blipFill>
          <a:blip r:embed="rId1"/>
          <a:stretch/>
        </p:blipFill>
        <p:spPr>
          <a:xfrm>
            <a:off x="682560" y="384120"/>
            <a:ext cx="8163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mene</dc:creator>
  <dc:description/>
  <dc:language>en-US</dc:language>
  <cp:lastModifiedBy>Marziyeh</cp:lastModifiedBy>
  <dcterms:modified xsi:type="dcterms:W3CDTF">2016-01-11T08:26:23Z</dcterms:modified>
  <cp:revision>110</cp:revision>
  <dc:subject/>
  <dc:title>Slide 1</dc:title>
</cp:coreProperties>
</file>